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AB15-ECDE-46C1-A108-4E9DB8164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F140-AD06-4A01-B9B6-1CE84C61B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undramertel.weebly.com/success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E7CD-0F8F-4E30-9279-66F5FF9B0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uzzle.com/articles/pioneer-species-explained-with-exampl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D1CE-E5D7-4B94-9C3F-C8A1F73B4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otany.hawaii.edu/faculty/bridges/bigisland/1974flow/1974flow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link: https://www.youtube.com/watch?v=TLpc71YOt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C24D-9B84-4DA6-AB1F-0B8215A89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9438-F480-47F3-B376-7B98C0D27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High Park Nature Centre info: http://www.highparknaturecentre.com/2016/05/all-about-high-parks-controlled-burns/?doing_wp_cron=1480568170.1897490024566650390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pinterest.com/pin/47400392950121897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C91E-C665-427D-9ED7-BCDEB633C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orontoist.com/2009/07/a_natural_benefit_of_extended_municipal_strik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CFD9-7BF4-4059-9513-4294CF079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411-DA10-450F-A562-F5C45793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780-B1F8-48CB-B3C7-497E4D3D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44D-CBCC-4481-861F-CF7D767E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E84-FDC5-4B5E-891A-06B84E46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085-A159-4BF1-9616-9FC45E8C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DCE-9E1C-4278-AA0F-E0D31878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1AD-5606-42FC-98E3-D81C5234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D3C-BCAF-4575-8392-8576230E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59F-CD67-450E-A34A-1FD2FB4C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8BE-C7E7-4329-82AB-00253080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AAD-836E-43C9-8D74-7F08AF59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603-B4B6-466B-9AB2-574D6294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60B0-6C4D-44D8-9A4F-4642F9D6D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1 - 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is the gradual change in the species composition of an area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an area that has no plants, animals, or s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oneer 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as lic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2" descr="volcanic-landscape.jpg"/>
          <p:cNvPicPr/>
          <p:nvPr/>
        </p:nvPicPr>
        <p:blipFill>
          <a:blip r:embed="rId1"/>
          <a:srcRect l="19134" t="0" r="19134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succession on a lava flow here; would be similar to what occurred on the Galapa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ontent Placeholder 2" descr="fernt.jpg"/>
          <p:cNvPicPr/>
          <p:nvPr/>
        </p:nvPicPr>
        <p:blipFill>
          <a:blip r:embed="rId1"/>
          <a:srcRect l="15276" t="0" r="15276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after a disturbance in an eco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urbances can be natural (forest fires, floods, etc.) or due to human activity (e.g., deforestation, mining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Activity &amp; 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cribed burns” can restore native vegetation in an ecosystem &amp; have been used since 2000 in High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2" descr="Prescribed-burn-pic-3-Lauras-blog-post.png"/>
          <p:cNvPicPr/>
          <p:nvPr/>
        </p:nvPicPr>
        <p:blipFill>
          <a:blip r:embed="rId1"/>
          <a:srcRect l="18599" t="0" r="18599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r-Cutting, Selective Cu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ve cutting can allow a community to remain in later stage of succession, maintaining bio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4" descr="cadf2100c186e5635981d261d719c2c5.jpg"/>
          <p:cNvPicPr/>
          <p:nvPr/>
        </p:nvPicPr>
        <p:blipFill>
          <a:blip r:embed="rId1"/>
          <a:srcRect l="-47486" t="0" r="-47486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native species are planted &amp; succession is allowed to occur, resulting in an increase in biodiversity &amp; a more stabl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ntent Placeholder 6" descr="20090716naturalization.jpg"/>
          <p:cNvPicPr/>
          <p:nvPr/>
        </p:nvPicPr>
        <p:blipFill>
          <a:blip r:embed="rId1"/>
          <a:srcRect l="15278" t="0" r="15278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1:15:55Z</dcterms:created>
  <dc:creator>rubina khan</dc:creator>
  <dc:description/>
  <dc:language>en-US</dc:language>
  <cp:lastModifiedBy>rubina khan</cp:lastModifiedBy>
  <dcterms:modified xsi:type="dcterms:W3CDTF">2016-12-01T05:11:11Z</dcterms:modified>
  <cp:revision>62</cp:revision>
  <dc:subject/>
  <dc:title>Succession</dc:title>
</cp:coreProperties>
</file>